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8FB-9316-4E48-82D6-8C8819D2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726-8461-45D4-B676-4EF38686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BA3-91B9-4815-9301-D84B9A8F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E6B-D2A5-4C26-BD50-71D479EF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C54-1A61-45FE-97C7-12B4A676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41E-A462-47BE-B009-D1F0E431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E01-CD26-49BA-B601-5B27D340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19C-64FA-4D54-A6D2-928D680B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EB0-F151-46CE-BE64-5529CA52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B6D-C90E-4653-8BD0-2CF8A179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FD4-03C3-4150-AD38-70E63E20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B5C-F869-4B53-A987-B137897F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9C69-E1A1-4255-A884-AB7C902EA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w-world.de/dw/article/0,,3202143,00.html" TargetMode="External"/><Relationship Id="rId2" Type="http://schemas.openxmlformats.org/officeDocument/2006/relationships/hyperlink" Target="http://www.nytimes.com/2008/07/04/world/europe/04iht-germany.4.14247403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erylium"/>
              </a:rPr>
              <a:t>Carbon Emissions 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Berylium"/>
              </a:rPr>
              <a:t>in Germany</a:t>
            </a:r>
            <a:r>
              <a:rPr b="0" lang="en-US" sz="4400" spc="-1" strike="noStrike">
                <a:solidFill>
                  <a:srgbClr val="000000"/>
                </a:solidFill>
                <a:latin typeface="Beryliu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Fritzi Witt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Quarter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038480" cy="268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w-world.de/dw/article/0,,3202143,00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ytimes.com/2008/07/04/world/europe/04iht-germany.4.14247403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erylium"/>
              </a:rPr>
              <a:t>Carbon Dioxide (CO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Berylium"/>
              </a:rPr>
              <a:t>2</a:t>
            </a:r>
            <a:r>
              <a:rPr b="0" lang="en-US" sz="3800" spc="-1" strike="noStrike">
                <a:solidFill>
                  <a:srgbClr val="000000"/>
                </a:solidFill>
                <a:latin typeface="Berylium"/>
              </a:rPr>
              <a:t>) Emis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The largest amount of human produc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Berylium"/>
              </a:rPr>
              <a:t>2 </a:t>
            </a: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can be found in western German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The region has always been a location of industry (Germany’s coal and steel regi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It is difficult to determine if the 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Berylium"/>
              </a:rPr>
              <a:t>2 </a:t>
            </a: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was produced in western Germany or was moved there naturall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(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Berylium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) levels are also affected by the seasons (In spring and summer the plants absorb the gas and the plants release their excess gas in fall and winter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Germany is credited with having produced the only instrument in existence that is able to measure the levels of (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Berylium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) close enough to the earth’s surface to ascertain the damage being done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Berylium"/>
              </a:rPr>
              <a:t>Using SCIAMACHY, the technology used to measure the (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Berylium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Berylium"/>
              </a:rPr>
              <a:t>) levels in Germany, researchers at the Bremen University collected their data over three years and created this image. Red indicates higher levels of (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Berylium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Berylium"/>
              </a:rPr>
              <a:t>), while blue and purple indicates low level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Diagram showing CO2 concentrations in Europe"/>
          <p:cNvPicPr/>
          <p:nvPr/>
        </p:nvPicPr>
        <p:blipFill>
          <a:blip r:embed="rId1"/>
          <a:stretch/>
        </p:blipFill>
        <p:spPr>
          <a:xfrm>
            <a:off x="1371600" y="457200"/>
            <a:ext cx="61722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ylium"/>
              </a:rPr>
              <a:t>Government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ylium"/>
              </a:rPr>
              <a:t>The German government passed a law whose aim is to lower green house gas emissions by doubling the amount of power supplied by renewable energy 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ylium"/>
              </a:rPr>
              <a:t>Angela Merkel, who as environmental minister before she became chancellor, saw this as a vi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ylium"/>
              </a:rPr>
              <a:t>The main sources of energy under the new bill are solar and wind energ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ylium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Berylium"/>
              </a:rPr>
              <a:t> of the nations energy is produced by wind mills. Approximately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Berylium"/>
              </a:rPr>
              <a:t> of the nations energy is produced by solar or wind energ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ylium"/>
              </a:rPr>
              <a:t>Co-generation (the production of heat during the production of renewable energy) has also been converted to a source of energy in Germ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37339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Here are pictures of wind mills. These are the primary producers of renewable energy in Germany as there are over 21,000 wind mills in the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24803" b="0"/>
          <a:stretch/>
        </p:blipFill>
        <p:spPr>
          <a:xfrm>
            <a:off x="838080" y="457200"/>
            <a:ext cx="3581640" cy="206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210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ylium"/>
              </a:rPr>
              <a:t>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The current environmental minister, Sigmar Gabriel, hopes to reduce electricity use by 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 by 20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He is encouraging Germans to take the train more often to cut down on CO2 emi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He plans to reduce the amount of heat produced during energy production instead of allowing it to be released into the at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This renovation of the German power system would cost over 3 million Euros. ($4.1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Gabriel says that if the rest of world does not follow in Germany’s footsteps their efforts will be for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7847" t="0" r="0" b="0"/>
          <a:stretch/>
        </p:blipFill>
        <p:spPr>
          <a:xfrm>
            <a:off x="0" y="457200"/>
            <a:ext cx="3581280" cy="2332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erylium"/>
              </a:rPr>
              <a:t>These are the trains that Gabriel is urging Germans to opt for instead of cars or airplanes as those modes of transportation release more greenhouse ga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8680" y="457200"/>
            <a:ext cx="3505320" cy="2336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895480" y="457200"/>
            <a:ext cx="35020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ylium"/>
              </a:rPr>
              <a:t>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1)Which part of German produces the most amount of Carbon diox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a) The western part (indus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b) The south (agricul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c) The north (ports and harb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2) How much would it cost to create a more energy efficient German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a) 15 million e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b) 3 million e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c) 1 million eur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ylium"/>
              </a:rPr>
              <a:t>Answ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yliu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ylium"/>
              </a:rPr>
              <a:t>The western, industrial part of Germany prodcues the most CO2 in Germ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yliu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ylium"/>
              </a:rPr>
              <a:t>The energy efficiency plans would cost about 3 million euros ($4.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2:49:21Z</dcterms:created>
  <dc:creator>SCSadmin</dc:creator>
  <dc:description/>
  <dc:language>en-US</dc:language>
  <cp:lastModifiedBy>SCSadmin</cp:lastModifiedBy>
  <dcterms:modified xsi:type="dcterms:W3CDTF">2012-01-25T12:34:35Z</dcterms:modified>
  <cp:revision>3</cp:revision>
  <dc:subject/>
  <dc:title>Carbon Emissions  in Germany </dc:title>
</cp:coreProperties>
</file>